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890E-505C-44A4-A8A8-312A3771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B3CCF-B372-4206-AB0C-C0C892EA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3C01-EF15-4D14-A3E6-360710CE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1FAA6-E457-4DE4-AE5F-0AC7B9E9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CEB4-D962-4648-971D-6B76D5F2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DEB7-71E6-44F8-93B1-9DB2E23B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DAA4-A680-4D09-9345-3BDB787C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388F-694C-4B5D-A50B-39A37F4F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B6D2-72D3-46EB-8D07-337B31E6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1530-A7CA-4281-9420-201F5124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67F0-1AB5-4A56-95A0-F4AF63FD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27DA-3C17-4BED-818A-A1B1FF8F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1353-2772-4934-9631-708E2C47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DAC2-3A9D-49ED-A924-D6AA5006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8CCC-8F28-4349-B525-E2A9F438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C831-6A66-4759-9F38-36F89587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B40E-4938-4301-8CF0-7CE91ED2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66AA-6F2B-4D76-BDCE-5FC13861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D7E28-267A-46CE-B998-4FA70054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FC791-27C6-4F29-8471-F772C690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EAB45-AD99-44B7-A96D-54A48C10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88F8-F119-40B1-AF94-ABCFA4B5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20788-7A8D-4CBE-A095-70241D62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8793D-C77F-40CF-AD62-BD96FF55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5B14-1AC7-4129-8406-DFF9BBB6977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1CE5-6F16-4A2B-AB86-D7AEA5B2A21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72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Тез са братя мо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з ми са сестр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ито за Сво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чита Бог сам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627200"/>
            <a:ext cx="10082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Малко на брой стадо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Пастира то знай;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в него старо, младо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в век веков ще трай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628640"/>
            <a:ext cx="9577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Божии любимци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ях светът презря;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за тях, боголюбци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Божи Син умря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628640"/>
            <a:ext cx="9577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е са братя мои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е ми са сестри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и на Бога Свои –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тях и ти люби!</a:t>
            </a:r>
            <a:r>
              <a:rPr b="0" lang="bg-BG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08-22T06:39:30Z</dcterms:modified>
  <cp:revision>159</cp:revision>
  <dc:subject/>
  <dc:title>Slide 1</dc:title>
</cp:coreProperties>
</file>